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20.wmf" ContentType="image/x-wmf"/>
  <Override PartName="/ppt/media/image18.gif" ContentType="image/gif"/>
  <Override PartName="/ppt/media/image3.wmf" ContentType="image/x-wmf"/>
  <Override PartName="/ppt/media/image21.wmf" ContentType="image/x-wmf"/>
  <Override PartName="/ppt/media/image19.wmf" ContentType="image/x-wmf"/>
  <Override PartName="/ppt/media/image16.gif" ContentType="image/gif"/>
  <Override PartName="/ppt/media/image1.wmf" ContentType="image/x-wmf"/>
  <Override PartName="/ppt/media/image17.gif" ContentType="image/gif"/>
  <Override PartName="/ppt/media/image2.wmf" ContentType="image/x-wmf"/>
  <Override PartName="/ppt/media/image15.gif" ContentType="image/gif"/>
  <Override PartName="/ppt/media/image1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5455-2636-48CB-A8D3-6F919F67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BABF-5E77-45D8-8843-BA250984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20EF-AB55-4B9D-AE3B-7498F13D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5361-84D0-41A5-8C55-C0BBE3C5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61D0-96EB-4446-A7AF-7B0179D1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0B9E-7CC5-405A-8E78-4442C7A9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87BE-6545-440F-A7BE-29A565EE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C444-7450-4B02-9BCD-8B3DF30F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8F1F-AB37-4F10-A267-D5D286E1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6F8E-9980-4ED5-8CA8-A29A97BC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43DA-193C-454C-846D-02DA54C9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31B1-DEFC-4174-B694-B198E95D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0D97-11E3-4565-A57B-E406ADC6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0F2A-2E2E-46E1-BC62-69354F27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7104-9129-4155-AEAF-E87924C8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003B-A59A-4BF1-9E6F-1EA5B58D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E1E1-9DC6-4FAE-9269-BD2E455A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447F-40D4-43BC-9578-EBBA18C6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7DF1-081A-4FDE-8FEC-9A82A56B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0311-A365-4C90-A850-83056861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A4A-D382-46B2-839B-B6C39CCC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4CBD-8006-4E9F-901A-5230B187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7D53-9672-4403-AEF7-7F5C5C0A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F035-5E33-4E64-8EA3-AE8C1B71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C019-8646-4EDE-B180-82B9A13D2A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7D82-EFE3-401B-B553-DBEA1E7596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My Muscular System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muscles move my b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strings move a pupp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010280" y="1447920"/>
            <a:ext cx="1719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did you learn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 your journal, write three sentences about what you learned about the muscular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orks Cited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Body:  Teacher Create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arta Encyclop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Cli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e muscular system is made up of…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end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w many muscles do I have?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about 650 muscles in my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muscles make up half of my body w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??  How much do your muscles wei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94320" y="2362320"/>
            <a:ext cx="267336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My muscles are important because they…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my organs i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my bones together so that I can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me chew my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nd close my eye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mp my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me to run and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me to smi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164772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010280" y="3581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264360" y="4038480"/>
            <a:ext cx="2879640" cy="1609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114800" y="4343400"/>
            <a:ext cx="1631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35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d you know?????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takes more muscles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w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mi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944960" y="3887640"/>
            <a:ext cx="1989360" cy="2189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95880" y="1523880"/>
            <a:ext cx="200340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are muscles made of?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tretchy, elastic cells and fib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is stretchy like a mus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326280" y="2057400"/>
            <a:ext cx="213192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y do I need tendon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ons attach my muscles to my bone helping my body m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 your tendon right abo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heel in the back of yo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thickest tendon in your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43000" y="2895480"/>
            <a:ext cx="2162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ry Thi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ne way to keep my muscles strong…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 foods from the meat group every day.  They are high in protein which helps to build strong mus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some foods that are high in prot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1828800" cy="1136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391520" y="2133720"/>
            <a:ext cx="1218960" cy="861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1828800" cy="1400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6781680" y="3352680"/>
            <a:ext cx="1846440" cy="1405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5181480" y="4876920"/>
            <a:ext cx="247500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nother way to keep strong muscles…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rcise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some things you can do every day to help keep your muscular system healt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553080" y="44956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33520" y="4437000"/>
            <a:ext cx="2057400" cy="1965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495680" y="4513320"/>
            <a:ext cx="1981440" cy="1892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2590920" y="44956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4648320" y="1523880"/>
            <a:ext cx="1752480" cy="1760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5334120" y="3352680"/>
            <a:ext cx="2971800" cy="117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6858000" y="1523880"/>
            <a:ext cx="1603440" cy="16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23:45:40Z</dcterms:created>
  <dc:creator>Community ISD </dc:creator>
  <dc:description/>
  <dc:language>en-US</dc:language>
  <cp:lastModifiedBy>Community ISD </cp:lastModifiedBy>
  <dcterms:modified xsi:type="dcterms:W3CDTF">2003-04-18T00:59:58Z</dcterms:modified>
  <cp:revision>7</cp:revision>
  <dc:subject/>
  <dc:title>My Muscular System</dc:title>
</cp:coreProperties>
</file>